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DFE-28EE-4B0A-95A2-D2F8BCB0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9E6-089F-4246-8507-26C2167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F19-62C9-434C-9F11-95A4D148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FB5-4348-43E1-B0A9-370BC3D5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FA2-EAFD-40FA-83C7-DF36B8C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088-A108-4A33-B3FC-3AE9E20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01C-BBD0-482E-8522-5FAEEE1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670-65E1-48D5-B16E-48733E2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9FC-DD09-48EF-A6E3-207A99E6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B04-9733-45A6-9778-F66DC03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E92-8C83-413F-8C9C-B04ED52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66B-4CCA-4AE2-8CAA-69924BB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314-E0C3-40A0-A86C-50866CFEC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8128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وق الصليب يا حبيبي كم لقيتَ آ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ممَّن تمادَوا في إيذائك وقد غفرتَ آث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2971800" cy="85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هل كل هذا يا إلهي كي تُعيدَ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إلى حِماكَ أحيا معك وتعزي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358128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ليتَ قلبي يدنو منك فأفوزُ ب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حيا لأجلك أمينا خاضعاً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22:10Z</dcterms:created>
  <dc:creator>SUZANNE.MD</dc:creator>
  <dc:description/>
  <dc:language>en-US</dc:language>
  <cp:lastModifiedBy>HANI SAFI</cp:lastModifiedBy>
  <dcterms:modified xsi:type="dcterms:W3CDTF">2003-03-14T12:19:06Z</dcterms:modified>
  <cp:revision>2</cp:revision>
  <dc:subject/>
  <dc:title>PowerPoint Presentation</dc:title>
</cp:coreProperties>
</file>